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B73-CC80-4B37-959E-33F387F3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4CC-D52E-464C-B8F9-CC9E018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0B-6CD8-4595-B395-8A55DED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C22-F4C9-44C6-86F1-7792AC3B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61D-87B0-4167-AB36-C2F27A58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C19-5B12-4C54-BBB5-9EAAD8E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1E18-AB0E-4B34-8F60-C31669C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0C39-CA2C-473C-9B60-24556A9C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528-BB68-46E2-B64C-C705675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87F5-40DB-4EC2-B81C-FD9D8C2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4061-109E-452A-9BB6-3FFD8FD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210-5740-4A0D-9A26-8332223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0C49-9A88-40A9-A9E0-65E27CB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78C-CE0E-4D7E-963C-AF8430A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751-EFC5-4F13-8F64-6792F04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4250-2E02-4BC1-8722-A88615CB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F0BE-FB55-4E77-8BE0-88FB1D62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88B0-6E33-4811-9081-98C0485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3BCF-3C34-4F4D-9F7A-2C46407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9601-DFB8-4B13-A0BD-108A9BA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3857-B3EA-44F1-A677-E00898E7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990C-F86A-4AFB-8A9C-B1ED93E3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768-3F6B-4CEA-94BB-2CACC74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A134-5AE9-4D09-9579-AED2771C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B441-545B-4EC9-8EF7-0E04666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69A9-BE57-4845-9BC4-5F23802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2555-8510-4761-A57B-4D29403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FFBA-3BDE-49D6-96B6-42FE274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95E9-8161-4CBE-81D3-73BAAE91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C8AB-ACBB-4BD3-A798-3F9850C4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BD7E-F624-458B-9628-E2DF7684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DD23-3278-4978-9F4C-BC1B402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09D4-017A-4353-AB82-5A54734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E7-B9D4-45BB-AD23-27DDA75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C7C7-6293-4AD2-8D08-C4E9CE0A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90E2-B6E9-4DF3-B5E9-D30017F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10A2-15AF-43F7-921D-64AA3C7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D4FC-E30B-4F02-8353-937560B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BEA0-3557-41F7-B068-35DA7FF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2FD8-A6D6-4FF1-BB70-F5A24F0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E70B-4A7A-4CCC-9F2C-6FF44CA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4ED7-8B0B-403A-A318-3D033D5F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08EF1-117C-4190-A1DE-2D32B51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B63-026C-4B4F-9CF9-1CABDC57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DFF-C8B0-42CA-B01C-36C43E87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32A-AB62-4706-A5D1-ABE78F5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719-32CA-4F74-990F-314BF25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D99-A163-4AEF-A631-B84CC8BF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DBB-ABC4-476C-BAD2-A45686F94656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D74-DBDF-4264-8E9C-1E3869030FFA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A57-B6A7-4ED4-B992-F58EA8F325C5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C52-C326-4877-9F02-B2114860E255}" type="slidenum">
              <a:rPr b="1" lang="pl-PL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395280" y="189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7030a0"/>
                </a:solidFill>
                <a:latin typeface="Comic Sans MS"/>
              </a:rPr>
              <a:t>Odejmuję liczby jednocyfrowe od pełnych dziesiątek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ole tekstowe 4"/>
          <p:cNvSpPr/>
          <p:nvPr/>
        </p:nvSpPr>
        <p:spPr>
          <a:xfrm>
            <a:off x="684360" y="27734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Oblicz w pamięci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10 – 3 =                  10 – 8 =                 10 -5 =                 10 – 9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ole tekstowe 5"/>
          <p:cNvSpPr/>
          <p:nvPr/>
        </p:nvSpPr>
        <p:spPr>
          <a:xfrm>
            <a:off x="755640" y="37162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Dziewczynki chciały udekorować drzwi wianuszkiem z kwiatów. Przygotowały 40 kwiatów. Poukładały je po 10 w każdym pudełku. Ile pudełek potrzebowały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ole tekstowe 6"/>
          <p:cNvSpPr/>
          <p:nvPr/>
        </p:nvSpPr>
        <p:spPr>
          <a:xfrm>
            <a:off x="900000" y="46404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70c0"/>
                </a:solidFill>
                <a:latin typeface="Trebuchet MS"/>
              </a:rPr>
              <a:t>Zgadza się. Potrzebowały 4 pudełk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Kolorowe organizery, pudełka, pojemniki WINNY na drobiazgi Łukowa ..."/>
          <p:cNvPicPr/>
          <p:nvPr/>
        </p:nvPicPr>
        <p:blipFill>
          <a:blip r:embed="rId1"/>
          <a:stretch/>
        </p:blipFill>
        <p:spPr>
          <a:xfrm>
            <a:off x="51264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Kolorowe organizery, pudełka, pojemniki WINNY na drobiazgi Łukowa ..."/>
          <p:cNvPicPr/>
          <p:nvPr/>
        </p:nvPicPr>
        <p:blipFill>
          <a:blip r:embed="rId2"/>
          <a:stretch/>
        </p:blipFill>
        <p:spPr>
          <a:xfrm>
            <a:off x="1908000" y="54738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Kolorowe organizery, pudełka, pojemniki WINNY na drobiazgi Łukowa ..."/>
          <p:cNvPicPr/>
          <p:nvPr/>
        </p:nvPicPr>
        <p:blipFill>
          <a:blip r:embed="rId3"/>
          <a:stretch/>
        </p:blipFill>
        <p:spPr>
          <a:xfrm>
            <a:off x="348300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Kolorowe organizery, pudełka, pojemniki WINNY na drobiazgi Łukowa ..."/>
          <p:cNvPicPr/>
          <p:nvPr/>
        </p:nvPicPr>
        <p:blipFill>
          <a:blip r:embed="rId4"/>
          <a:stretch/>
        </p:blipFill>
        <p:spPr>
          <a:xfrm>
            <a:off x="4932360" y="5445000"/>
            <a:ext cx="1305000" cy="120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Bukiet z tkanin Czerwone tulipany, bawełniany bukiet 10 kwiatów ..."/>
          <p:cNvPicPr/>
          <p:nvPr/>
        </p:nvPicPr>
        <p:blipFill>
          <a:blip r:embed="rId5"/>
          <a:srcRect l="5775" t="3368" r="17524" b="48542"/>
          <a:stretch/>
        </p:blipFill>
        <p:spPr>
          <a:xfrm>
            <a:off x="614520" y="5138640"/>
            <a:ext cx="1100160" cy="612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Bukiet z tkanin Czerwone tulipany, bawełniany bukiet 10 kwiatów ..."/>
          <p:cNvPicPr/>
          <p:nvPr/>
        </p:nvPicPr>
        <p:blipFill>
          <a:blip r:embed="rId6"/>
          <a:srcRect l="5775" t="3368" r="17524" b="48542"/>
          <a:stretch/>
        </p:blipFill>
        <p:spPr>
          <a:xfrm>
            <a:off x="2011320" y="5167440"/>
            <a:ext cx="1098720" cy="61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Bukiet z tkanin Czerwone tulipany, bawełniany bukiet 10 kwiatów ..."/>
          <p:cNvPicPr/>
          <p:nvPr/>
        </p:nvPicPr>
        <p:blipFill>
          <a:blip r:embed="rId7"/>
          <a:srcRect l="5775" t="3368" r="17524" b="48542"/>
          <a:stretch/>
        </p:blipFill>
        <p:spPr>
          <a:xfrm>
            <a:off x="3689280" y="5014800"/>
            <a:ext cx="1098720" cy="6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Bukiet z tkanin Czerwone tulipany, bawełniany bukiet 10 kwiatów ..."/>
          <p:cNvPicPr/>
          <p:nvPr/>
        </p:nvPicPr>
        <p:blipFill>
          <a:blip r:embed="rId8"/>
          <a:srcRect l="5775" t="3368" r="17524" b="48542"/>
          <a:stretch/>
        </p:blipFill>
        <p:spPr>
          <a:xfrm>
            <a:off x="5035680" y="5129280"/>
            <a:ext cx="1098360" cy="61128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1"/>
          <p:cNvSpPr/>
          <p:nvPr/>
        </p:nvSpPr>
        <p:spPr>
          <a:xfrm>
            <a:off x="6372360" y="575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omic Sans MS"/>
              </a:rPr>
              <a:t>= 40 kwiató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4"/>
          <p:cNvSpPr/>
          <p:nvPr/>
        </p:nvSpPr>
        <p:spPr>
          <a:xfrm>
            <a:off x="468360" y="189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Dziewczynki wzięły z pudełek 7 kwiatów i przykleiły do wianuszk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omic Sans MS"/>
              </a:rPr>
              <a:t>Ile kwiatów zostało w pudełkach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2" descr="Kolorowe organizery, pudełka, pojemniki WINNY na drobiazgi Łukowa ..."/>
          <p:cNvPicPr/>
          <p:nvPr/>
        </p:nvPicPr>
        <p:blipFill>
          <a:blip r:embed="rId1"/>
          <a:stretch/>
        </p:blipFill>
        <p:spPr>
          <a:xfrm>
            <a:off x="422280" y="3789360"/>
            <a:ext cx="280656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Kolorowe organizery, pudełka, pojemniki WINNY na drobiazgi Łukowa ..."/>
          <p:cNvPicPr/>
          <p:nvPr/>
        </p:nvPicPr>
        <p:blipFill>
          <a:blip r:embed="rId2"/>
          <a:stretch/>
        </p:blipFill>
        <p:spPr>
          <a:xfrm>
            <a:off x="3452760" y="1481040"/>
            <a:ext cx="1305000" cy="120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Kolorowe organizery, pudełka, pojemniki WINNY na drobiazgi Łukowa ..."/>
          <p:cNvPicPr/>
          <p:nvPr/>
        </p:nvPicPr>
        <p:blipFill>
          <a:blip r:embed="rId3"/>
          <a:stretch/>
        </p:blipFill>
        <p:spPr>
          <a:xfrm>
            <a:off x="1924200" y="1370160"/>
            <a:ext cx="1303200" cy="12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Kolorowe organizery, pudełka, pojemniki WINNY na drobiazgi Łukowa ..."/>
          <p:cNvPicPr/>
          <p:nvPr/>
        </p:nvPicPr>
        <p:blipFill>
          <a:blip r:embed="rId4"/>
          <a:stretch/>
        </p:blipFill>
        <p:spPr>
          <a:xfrm>
            <a:off x="436680" y="1341360"/>
            <a:ext cx="1304640" cy="120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Bukiet z tkanin Czerwone tulipany, bawełniany bukiet 10 kwiatów ..."/>
          <p:cNvPicPr/>
          <p:nvPr/>
        </p:nvPicPr>
        <p:blipFill>
          <a:blip r:embed="rId5"/>
          <a:srcRect l="5775" t="3368" r="17524" b="48542"/>
          <a:stretch/>
        </p:blipFill>
        <p:spPr>
          <a:xfrm>
            <a:off x="3556080" y="893880"/>
            <a:ext cx="1098360" cy="61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ukiet z tkanin Czerwone tulipany, bawełniany bukiet 10 kwiatów ..."/>
          <p:cNvPicPr/>
          <p:nvPr/>
        </p:nvPicPr>
        <p:blipFill>
          <a:blip r:embed="rId6"/>
          <a:srcRect l="5775" t="3368" r="17524" b="48542"/>
          <a:stretch/>
        </p:blipFill>
        <p:spPr>
          <a:xfrm>
            <a:off x="2117880" y="860400"/>
            <a:ext cx="1098360" cy="611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Bukiet z tkanin Czerwone tulipany, bawełniany bukiet 10 kwiatów ..."/>
          <p:cNvPicPr/>
          <p:nvPr/>
        </p:nvPicPr>
        <p:blipFill>
          <a:blip r:embed="rId7"/>
          <a:srcRect l="5775" t="3368" r="17524" b="48542"/>
          <a:stretch/>
        </p:blipFill>
        <p:spPr>
          <a:xfrm>
            <a:off x="538200" y="860400"/>
            <a:ext cx="1100160" cy="61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Bukiet z tkanin Czerwone tulipany, bawełniany bukiet 10 kwiatów ..."/>
          <p:cNvPicPr/>
          <p:nvPr/>
        </p:nvPicPr>
        <p:blipFill>
          <a:blip r:embed="rId8"/>
          <a:srcRect l="53352" t="3370" r="36281" b="48536"/>
          <a:stretch/>
        </p:blipFill>
        <p:spPr>
          <a:xfrm>
            <a:off x="538200" y="3119400"/>
            <a:ext cx="3031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Bukiet z tkanin Czerwone tulipany, bawełniany bukiet 10 kwiatów ..."/>
          <p:cNvPicPr/>
          <p:nvPr/>
        </p:nvPicPr>
        <p:blipFill>
          <a:blip r:embed="rId9"/>
          <a:srcRect l="53352" t="3370" r="36281" b="48536"/>
          <a:stretch/>
        </p:blipFill>
        <p:spPr>
          <a:xfrm>
            <a:off x="936720" y="3514680"/>
            <a:ext cx="303120" cy="124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Bukiet z tkanin Czerwone tulipany, bawełniany bukiet 10 kwiatów ..."/>
          <p:cNvPicPr/>
          <p:nvPr/>
        </p:nvPicPr>
        <p:blipFill>
          <a:blip r:embed="rId10"/>
          <a:srcRect l="53352" t="3370" r="36281" b="48536"/>
          <a:stretch/>
        </p:blipFill>
        <p:spPr>
          <a:xfrm>
            <a:off x="1239840" y="3048120"/>
            <a:ext cx="30168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Bukiet z tkanin Czerwone tulipany, bawełniany bukiet 10 kwiatów ..."/>
          <p:cNvPicPr/>
          <p:nvPr/>
        </p:nvPicPr>
        <p:blipFill>
          <a:blip r:embed="rId11"/>
          <a:srcRect l="53352" t="3370" r="36281" b="48536"/>
          <a:stretch/>
        </p:blipFill>
        <p:spPr>
          <a:xfrm>
            <a:off x="1589040" y="3532320"/>
            <a:ext cx="303120" cy="124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Bukiet z tkanin Czerwone tulipany, bawełniany bukiet 10 kwiatów ..."/>
          <p:cNvPicPr/>
          <p:nvPr/>
        </p:nvPicPr>
        <p:blipFill>
          <a:blip r:embed="rId12"/>
          <a:srcRect l="53352" t="3370" r="36281" b="48536"/>
          <a:stretch/>
        </p:blipFill>
        <p:spPr>
          <a:xfrm>
            <a:off x="1865160" y="3048120"/>
            <a:ext cx="301680" cy="124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Bukiet z tkanin Czerwone tulipany, bawełniany bukiet 10 kwiatów ..."/>
          <p:cNvPicPr/>
          <p:nvPr/>
        </p:nvPicPr>
        <p:blipFill>
          <a:blip r:embed="rId13"/>
          <a:srcRect l="53352" t="3370" r="36281" b="48536"/>
          <a:stretch/>
        </p:blipFill>
        <p:spPr>
          <a:xfrm>
            <a:off x="2136600" y="3719520"/>
            <a:ext cx="303480" cy="12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Bukiet z tkanin Czerwone tulipany, bawełniany bukiet 10 kwiatów ..."/>
          <p:cNvPicPr/>
          <p:nvPr/>
        </p:nvPicPr>
        <p:blipFill>
          <a:blip r:embed="rId14"/>
          <a:srcRect l="53352" t="3370" r="36281" b="48536"/>
          <a:stretch/>
        </p:blipFill>
        <p:spPr>
          <a:xfrm>
            <a:off x="2424240" y="3218040"/>
            <a:ext cx="303120" cy="124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Bukiet z tkanin Czerwone tulipany, bawełniany bukiet 10 kwiatów ..."/>
          <p:cNvPicPr/>
          <p:nvPr/>
        </p:nvPicPr>
        <p:blipFill>
          <a:blip r:embed="rId15"/>
          <a:srcRect l="53352" t="3370" r="36281" b="48536"/>
          <a:stretch/>
        </p:blipFill>
        <p:spPr>
          <a:xfrm>
            <a:off x="2860560" y="3741840"/>
            <a:ext cx="301680" cy="12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Bukiet z tkanin Czerwone tulipany, bawełniany bukiet 10 kwiatów ..."/>
          <p:cNvPicPr/>
          <p:nvPr/>
        </p:nvPicPr>
        <p:blipFill>
          <a:blip r:embed="rId16"/>
          <a:srcRect l="53352" t="3370" r="36281" b="48536"/>
          <a:stretch/>
        </p:blipFill>
        <p:spPr>
          <a:xfrm>
            <a:off x="785880" y="3048120"/>
            <a:ext cx="3031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Bukiet z tkanin Czerwone tulipany, bawełniany bukiet 10 kwiatów ..."/>
          <p:cNvPicPr/>
          <p:nvPr/>
        </p:nvPicPr>
        <p:blipFill>
          <a:blip r:embed="rId17"/>
          <a:srcRect l="53352" t="3370" r="36281" b="48536"/>
          <a:stretch/>
        </p:blipFill>
        <p:spPr>
          <a:xfrm>
            <a:off x="2747880" y="3193920"/>
            <a:ext cx="301680" cy="12430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23"/>
          <p:cNvSpPr/>
          <p:nvPr/>
        </p:nvSpPr>
        <p:spPr>
          <a:xfrm>
            <a:off x="3556080" y="311940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omic Sans MS"/>
              </a:rPr>
              <a:t>Z tego pudełka wyjęto 7 kwiató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ole tekstowe 24"/>
          <p:cNvSpPr/>
          <p:nvPr/>
        </p:nvSpPr>
        <p:spPr>
          <a:xfrm>
            <a:off x="5148360" y="14716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= 30 kwiatów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zostaj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ole tekstowe 26"/>
          <p:cNvSpPr/>
          <p:nvPr/>
        </p:nvSpPr>
        <p:spPr>
          <a:xfrm>
            <a:off x="6372360" y="4573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– 7 = 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ole tekstowe 27"/>
          <p:cNvSpPr/>
          <p:nvPr/>
        </p:nvSpPr>
        <p:spPr>
          <a:xfrm>
            <a:off x="1239840" y="515772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kwiató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ole tekstowe 28"/>
          <p:cNvSpPr/>
          <p:nvPr/>
        </p:nvSpPr>
        <p:spPr>
          <a:xfrm>
            <a:off x="6402240" y="4984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? </a:t>
            </a: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8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9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10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ole tekstowe 3"/>
          <p:cNvSpPr/>
          <p:nvPr/>
        </p:nvSpPr>
        <p:spPr>
          <a:xfrm>
            <a:off x="826920" y="476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Czy już wiesz ile kwiatów zostało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ole tekstowe 4"/>
          <p:cNvSpPr/>
          <p:nvPr/>
        </p:nvSpPr>
        <p:spPr>
          <a:xfrm>
            <a:off x="900000" y="1125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Trebuchet MS"/>
              </a:rPr>
              <a:t>40 – 7 = 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ole tekstowe 5"/>
          <p:cNvSpPr/>
          <p:nvPr/>
        </p:nvSpPr>
        <p:spPr>
          <a:xfrm>
            <a:off x="971640" y="2205000"/>
            <a:ext cx="374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Świetnie </a:t>
            </a:r>
            <a:r>
              <a:rPr b="0" lang="pl-PL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Trebuchet MS"/>
              </a:rPr>
              <a:t>40 – 7 = 3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ole tekstowe 6"/>
          <p:cNvSpPr/>
          <p:nvPr/>
        </p:nvSpPr>
        <p:spPr>
          <a:xfrm>
            <a:off x="826920" y="378936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 zeszycie do matematyki wpisz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Temat: Odejmuję liczby jednocyfrowe od pełnych dziesiątek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Przepisz i oblicz w zeszycie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0 – 5 =           10 – 1 =                10 - 2 =              10 - 6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0 – 5 =            90 -1 =                70 – 2 =               40 – 6 =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2:51:01Z</dcterms:created>
  <dc:creator>DOM</dc:creator>
  <dc:description/>
  <dc:language>en-US</dc:language>
  <cp:lastModifiedBy>DOM</cp:lastModifiedBy>
  <dcterms:modified xsi:type="dcterms:W3CDTF">2020-03-30T20:36:14Z</dcterms:modified>
  <cp:revision>8</cp:revision>
  <dc:subject/>
  <dc:title>Prezentacja programu PowerPoint</dc:title>
</cp:coreProperties>
</file>