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ED0-78B4-4012-BDD4-4BA337C3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8F1-F098-4427-B67D-5D648A6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51B-2E8F-427C-96C4-4E53CA4C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F01-FA6E-491B-AB17-8EF4DA91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649A-1665-423C-B076-CD1A612E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596-78D4-4780-89CC-2E4A88E4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DA18-0341-4E12-B07E-AB6EDF0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BC29-26F9-47B1-B6F4-A867025C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E9E8-21C7-4051-A076-38E8E714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61C-1780-452A-8849-929E0645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EB1-84C9-4528-A1C8-FB9EDA0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533-3973-4E30-BDCF-B7674F7A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98BF-BFB1-4FB5-953D-DF3CB6C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B18-691B-4124-A943-C898EA4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B0F-BC23-4C8C-9E83-75302590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43A-D604-4683-AC8B-D6EEAFC8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3122-B3FE-40F8-B89E-205CA5CF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8DD5-7D71-4971-81C3-1D934F4A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337D-F12F-4CD9-9972-ECD307C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6680-43C5-4BD2-B00A-D7C419E9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1D93-76C8-4A44-894B-EC19250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2F4B-E678-4FDF-95F1-5AEA7350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C06-DC2B-44A9-8713-9925AEE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3B4E-C51C-4EEE-912E-73DA57A4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E796-11B8-4727-9EC0-B39058C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8643-E831-4507-8DBA-AB9B52D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E42C-D438-4007-A486-26FB050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537C-8212-4224-A86E-BA315D1F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6643-AD54-48BD-9364-8C46D6FA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358E-A5CA-42A0-836A-768B03CF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7C30-8789-48EA-981A-B5A0BD86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2F38-B9CC-4183-A50C-3553F80E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E00B-03DF-4FCF-A9EC-A1243B7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DB3-8AB2-4039-9EFE-1102EFA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3FE7-DDD2-48A0-A084-B796D4AC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B265-3F87-42B6-8A55-8336FDF2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79BA-3FC6-4BDB-979A-B3A1ADC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2788-775A-45C5-8B9F-37B1BC3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042A-B423-4FC5-83FE-9EDD0F1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3F64-BF1D-41E9-BB4F-BBDAF15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1062-5D8E-4B3F-A9C8-6B04AA0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D05F-C347-4A78-A499-8EE77EC4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ED4B7-DC3E-4CDE-8DA6-FF0CE71E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B78-DFCD-4EB5-B216-91DBE4C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3C0-6775-4759-B35C-A03991EB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B6B-1BE1-4D04-A9D9-E715F654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2D4-1EA2-4229-8B81-9C982F7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DE3-7A50-43AE-8013-E8762019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CA8A-9591-4A5B-A98C-01FF4B164F60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736-4CEC-45D8-927D-509AFE31DAAB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C16-7211-4AA3-B15A-9AA5B06699A2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0762-F075-4A5C-8485-6EBA3D019F69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3"/>
          <p:cNvSpPr/>
          <p:nvPr/>
        </p:nvSpPr>
        <p:spPr>
          <a:xfrm>
            <a:off x="395280" y="1890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7030a0"/>
                </a:solidFill>
                <a:latin typeface="Comic Sans MS"/>
              </a:rPr>
              <a:t>Odejmuję liczby jednocyfrowe od pełnych dziesiątek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ole tekstowe 4"/>
          <p:cNvSpPr/>
          <p:nvPr/>
        </p:nvSpPr>
        <p:spPr>
          <a:xfrm>
            <a:off x="684360" y="27734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Oblicz w pamięci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10 – 3 =                  10 – 8 =                 10 -5 =                 10 – 9 =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ole tekstowe 5"/>
          <p:cNvSpPr/>
          <p:nvPr/>
        </p:nvSpPr>
        <p:spPr>
          <a:xfrm>
            <a:off x="755640" y="3716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omic Sans MS"/>
              </a:rPr>
              <a:t>Dziewczynki chciały udekorować drzwi wianuszkiem z kwiatów. Przygotowały 40 kwiatów. Poukładały je po 10 w każdym pudełku. Ile pudełek potrzebowały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ole tekstowe 6"/>
          <p:cNvSpPr/>
          <p:nvPr/>
        </p:nvSpPr>
        <p:spPr>
          <a:xfrm>
            <a:off x="900000" y="46404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70c0"/>
                </a:solidFill>
                <a:latin typeface="Trebuchet MS"/>
              </a:rPr>
              <a:t>Zgadza się. Potrzebowały 4 pudełk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Kolorowe organizery, pudełka, pojemniki WINNY na drobiazgi Łukowa ..."/>
          <p:cNvPicPr/>
          <p:nvPr/>
        </p:nvPicPr>
        <p:blipFill>
          <a:blip r:embed="rId1"/>
          <a:stretch/>
        </p:blipFill>
        <p:spPr>
          <a:xfrm>
            <a:off x="512640" y="54450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Kolorowe organizery, pudełka, pojemniki WINNY na drobiazgi Łukowa ..."/>
          <p:cNvPicPr/>
          <p:nvPr/>
        </p:nvPicPr>
        <p:blipFill>
          <a:blip r:embed="rId2"/>
          <a:stretch/>
        </p:blipFill>
        <p:spPr>
          <a:xfrm>
            <a:off x="1908000" y="54738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Kolorowe organizery, pudełka, pojemniki WINNY na drobiazgi Łukowa ..."/>
          <p:cNvPicPr/>
          <p:nvPr/>
        </p:nvPicPr>
        <p:blipFill>
          <a:blip r:embed="rId3"/>
          <a:stretch/>
        </p:blipFill>
        <p:spPr>
          <a:xfrm>
            <a:off x="3483000" y="54450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Kolorowe organizery, pudełka, pojemniki WINNY na drobiazgi Łukowa ..."/>
          <p:cNvPicPr/>
          <p:nvPr/>
        </p:nvPicPr>
        <p:blipFill>
          <a:blip r:embed="rId4"/>
          <a:stretch/>
        </p:blipFill>
        <p:spPr>
          <a:xfrm>
            <a:off x="4932360" y="54450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Bukiet z tkanin Czerwone tulipany, bawełniany bukiet 10 kwiatów ..."/>
          <p:cNvPicPr/>
          <p:nvPr/>
        </p:nvPicPr>
        <p:blipFill>
          <a:blip r:embed="rId5"/>
          <a:srcRect l="5775" t="3368" r="17524" b="48542"/>
          <a:stretch/>
        </p:blipFill>
        <p:spPr>
          <a:xfrm>
            <a:off x="614520" y="5138640"/>
            <a:ext cx="1100160" cy="61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Bukiet z tkanin Czerwone tulipany, bawełniany bukiet 10 kwiatów ..."/>
          <p:cNvPicPr/>
          <p:nvPr/>
        </p:nvPicPr>
        <p:blipFill>
          <a:blip r:embed="rId6"/>
          <a:srcRect l="5775" t="3368" r="17524" b="48542"/>
          <a:stretch/>
        </p:blipFill>
        <p:spPr>
          <a:xfrm>
            <a:off x="2011320" y="5167440"/>
            <a:ext cx="1098720" cy="61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Bukiet z tkanin Czerwone tulipany, bawełniany bukiet 10 kwiatów ..."/>
          <p:cNvPicPr/>
          <p:nvPr/>
        </p:nvPicPr>
        <p:blipFill>
          <a:blip r:embed="rId7"/>
          <a:srcRect l="5775" t="3368" r="17524" b="48542"/>
          <a:stretch/>
        </p:blipFill>
        <p:spPr>
          <a:xfrm>
            <a:off x="3689280" y="5014800"/>
            <a:ext cx="1098720" cy="61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Bukiet z tkanin Czerwone tulipany, bawełniany bukiet 10 kwiatów ..."/>
          <p:cNvPicPr/>
          <p:nvPr/>
        </p:nvPicPr>
        <p:blipFill>
          <a:blip r:embed="rId8"/>
          <a:srcRect l="5775" t="3368" r="17524" b="48542"/>
          <a:stretch/>
        </p:blipFill>
        <p:spPr>
          <a:xfrm>
            <a:off x="5035680" y="5129280"/>
            <a:ext cx="1098360" cy="61128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1"/>
          <p:cNvSpPr/>
          <p:nvPr/>
        </p:nvSpPr>
        <p:spPr>
          <a:xfrm>
            <a:off x="6372360" y="575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omic Sans MS"/>
              </a:rPr>
              <a:t>= 40 kwiató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4"/>
          <p:cNvSpPr/>
          <p:nvPr/>
        </p:nvSpPr>
        <p:spPr>
          <a:xfrm>
            <a:off x="468360" y="189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omic Sans MS"/>
              </a:rPr>
              <a:t>Dziewczynki wzięły z pudełek 7 kwiatów i przykleiły do wianuszk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omic Sans MS"/>
              </a:rPr>
              <a:t>Ile kwiatów zostało w pudełkach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2" descr="Kolorowe organizery, pudełka, pojemniki WINNY na drobiazgi Łukowa ..."/>
          <p:cNvPicPr/>
          <p:nvPr/>
        </p:nvPicPr>
        <p:blipFill>
          <a:blip r:embed="rId1"/>
          <a:stretch/>
        </p:blipFill>
        <p:spPr>
          <a:xfrm>
            <a:off x="422280" y="3789360"/>
            <a:ext cx="280656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Kolorowe organizery, pudełka, pojemniki WINNY na drobiazgi Łukowa ..."/>
          <p:cNvPicPr/>
          <p:nvPr/>
        </p:nvPicPr>
        <p:blipFill>
          <a:blip r:embed="rId2"/>
          <a:stretch/>
        </p:blipFill>
        <p:spPr>
          <a:xfrm>
            <a:off x="3452760" y="1481040"/>
            <a:ext cx="1305000" cy="120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Kolorowe organizery, pudełka, pojemniki WINNY na drobiazgi Łukowa ..."/>
          <p:cNvPicPr/>
          <p:nvPr/>
        </p:nvPicPr>
        <p:blipFill>
          <a:blip r:embed="rId3"/>
          <a:stretch/>
        </p:blipFill>
        <p:spPr>
          <a:xfrm>
            <a:off x="1924200" y="1370160"/>
            <a:ext cx="1303200" cy="12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Kolorowe organizery, pudełka, pojemniki WINNY na drobiazgi Łukowa ..."/>
          <p:cNvPicPr/>
          <p:nvPr/>
        </p:nvPicPr>
        <p:blipFill>
          <a:blip r:embed="rId4"/>
          <a:stretch/>
        </p:blipFill>
        <p:spPr>
          <a:xfrm>
            <a:off x="436680" y="1341360"/>
            <a:ext cx="1304640" cy="1204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Bukiet z tkanin Czerwone tulipany, bawełniany bukiet 10 kwiatów ..."/>
          <p:cNvPicPr/>
          <p:nvPr/>
        </p:nvPicPr>
        <p:blipFill>
          <a:blip r:embed="rId5"/>
          <a:srcRect l="5775" t="3368" r="17524" b="48542"/>
          <a:stretch/>
        </p:blipFill>
        <p:spPr>
          <a:xfrm>
            <a:off x="3556080" y="893880"/>
            <a:ext cx="1098360" cy="61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Bukiet z tkanin Czerwone tulipany, bawełniany bukiet 10 kwiatów ..."/>
          <p:cNvPicPr/>
          <p:nvPr/>
        </p:nvPicPr>
        <p:blipFill>
          <a:blip r:embed="rId6"/>
          <a:srcRect l="5775" t="3368" r="17524" b="48542"/>
          <a:stretch/>
        </p:blipFill>
        <p:spPr>
          <a:xfrm>
            <a:off x="2117880" y="860400"/>
            <a:ext cx="1098360" cy="611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Bukiet z tkanin Czerwone tulipany, bawełniany bukiet 10 kwiatów ..."/>
          <p:cNvPicPr/>
          <p:nvPr/>
        </p:nvPicPr>
        <p:blipFill>
          <a:blip r:embed="rId7"/>
          <a:srcRect l="5775" t="3368" r="17524" b="48542"/>
          <a:stretch/>
        </p:blipFill>
        <p:spPr>
          <a:xfrm>
            <a:off x="538200" y="860400"/>
            <a:ext cx="1100160" cy="61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Bukiet z tkanin Czerwone tulipany, bawełniany bukiet 10 kwiatów ..."/>
          <p:cNvPicPr/>
          <p:nvPr/>
        </p:nvPicPr>
        <p:blipFill>
          <a:blip r:embed="rId8"/>
          <a:srcRect l="53352" t="3370" r="36281" b="48536"/>
          <a:stretch/>
        </p:blipFill>
        <p:spPr>
          <a:xfrm>
            <a:off x="538200" y="3119400"/>
            <a:ext cx="303120" cy="1244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Bukiet z tkanin Czerwone tulipany, bawełniany bukiet 10 kwiatów ..."/>
          <p:cNvPicPr/>
          <p:nvPr/>
        </p:nvPicPr>
        <p:blipFill>
          <a:blip r:embed="rId9"/>
          <a:srcRect l="53352" t="3370" r="36281" b="48536"/>
          <a:stretch/>
        </p:blipFill>
        <p:spPr>
          <a:xfrm>
            <a:off x="936720" y="3514680"/>
            <a:ext cx="303120" cy="124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Bukiet z tkanin Czerwone tulipany, bawełniany bukiet 10 kwiatów ..."/>
          <p:cNvPicPr/>
          <p:nvPr/>
        </p:nvPicPr>
        <p:blipFill>
          <a:blip r:embed="rId10"/>
          <a:srcRect l="53352" t="3370" r="36281" b="48536"/>
          <a:stretch/>
        </p:blipFill>
        <p:spPr>
          <a:xfrm>
            <a:off x="1239840" y="3048120"/>
            <a:ext cx="30168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Bukiet z tkanin Czerwone tulipany, bawełniany bukiet 10 kwiatów ..."/>
          <p:cNvPicPr/>
          <p:nvPr/>
        </p:nvPicPr>
        <p:blipFill>
          <a:blip r:embed="rId11"/>
          <a:srcRect l="53352" t="3370" r="36281" b="48536"/>
          <a:stretch/>
        </p:blipFill>
        <p:spPr>
          <a:xfrm>
            <a:off x="1589040" y="3532320"/>
            <a:ext cx="303120" cy="124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Bukiet z tkanin Czerwone tulipany, bawełniany bukiet 10 kwiatów ..."/>
          <p:cNvPicPr/>
          <p:nvPr/>
        </p:nvPicPr>
        <p:blipFill>
          <a:blip r:embed="rId12"/>
          <a:srcRect l="53352" t="3370" r="36281" b="48536"/>
          <a:stretch/>
        </p:blipFill>
        <p:spPr>
          <a:xfrm>
            <a:off x="1865160" y="3048120"/>
            <a:ext cx="301680" cy="124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Bukiet z tkanin Czerwone tulipany, bawełniany bukiet 10 kwiatów ..."/>
          <p:cNvPicPr/>
          <p:nvPr/>
        </p:nvPicPr>
        <p:blipFill>
          <a:blip r:embed="rId13"/>
          <a:srcRect l="53352" t="3370" r="36281" b="48536"/>
          <a:stretch/>
        </p:blipFill>
        <p:spPr>
          <a:xfrm>
            <a:off x="2136600" y="3719520"/>
            <a:ext cx="303480" cy="1243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Bukiet z tkanin Czerwone tulipany, bawełniany bukiet 10 kwiatów ..."/>
          <p:cNvPicPr/>
          <p:nvPr/>
        </p:nvPicPr>
        <p:blipFill>
          <a:blip r:embed="rId14"/>
          <a:srcRect l="53352" t="3370" r="36281" b="48536"/>
          <a:stretch/>
        </p:blipFill>
        <p:spPr>
          <a:xfrm>
            <a:off x="2424240" y="3218040"/>
            <a:ext cx="303120" cy="1242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Bukiet z tkanin Czerwone tulipany, bawełniany bukiet 10 kwiatów ..."/>
          <p:cNvPicPr/>
          <p:nvPr/>
        </p:nvPicPr>
        <p:blipFill>
          <a:blip r:embed="rId15"/>
          <a:srcRect l="53352" t="3370" r="36281" b="48536"/>
          <a:stretch/>
        </p:blipFill>
        <p:spPr>
          <a:xfrm>
            <a:off x="2860560" y="3741840"/>
            <a:ext cx="301680" cy="124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Bukiet z tkanin Czerwone tulipany, bawełniany bukiet 10 kwiatów ..."/>
          <p:cNvPicPr/>
          <p:nvPr/>
        </p:nvPicPr>
        <p:blipFill>
          <a:blip r:embed="rId16"/>
          <a:srcRect l="53352" t="3370" r="36281" b="48536"/>
          <a:stretch/>
        </p:blipFill>
        <p:spPr>
          <a:xfrm>
            <a:off x="785880" y="3048120"/>
            <a:ext cx="3031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Bukiet z tkanin Czerwone tulipany, bawełniany bukiet 10 kwiatów ..."/>
          <p:cNvPicPr/>
          <p:nvPr/>
        </p:nvPicPr>
        <p:blipFill>
          <a:blip r:embed="rId17"/>
          <a:srcRect l="53352" t="3370" r="36281" b="48536"/>
          <a:stretch/>
        </p:blipFill>
        <p:spPr>
          <a:xfrm>
            <a:off x="2747880" y="3193920"/>
            <a:ext cx="301680" cy="12430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23"/>
          <p:cNvSpPr/>
          <p:nvPr/>
        </p:nvSpPr>
        <p:spPr>
          <a:xfrm>
            <a:off x="3556080" y="311940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omic Sans MS"/>
              </a:rPr>
              <a:t>Z tego pudełka wyjęto 7 kwiatów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ole tekstowe 24"/>
          <p:cNvSpPr/>
          <p:nvPr/>
        </p:nvSpPr>
        <p:spPr>
          <a:xfrm>
            <a:off x="5148360" y="14716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= 30 kwiatów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zostaj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ole tekstowe 26"/>
          <p:cNvSpPr/>
          <p:nvPr/>
        </p:nvSpPr>
        <p:spPr>
          <a:xfrm>
            <a:off x="6372360" y="4573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0 – 7 = </a:t>
            </a: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ole tekstowe 27"/>
          <p:cNvSpPr/>
          <p:nvPr/>
        </p:nvSpPr>
        <p:spPr>
          <a:xfrm>
            <a:off x="1239840" y="515772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0 kwiató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ole tekstowe 28"/>
          <p:cNvSpPr/>
          <p:nvPr/>
        </p:nvSpPr>
        <p:spPr>
          <a:xfrm>
            <a:off x="6402240" y="4984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? </a:t>
            </a: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8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8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8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9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9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9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10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ole tekstowe 3"/>
          <p:cNvSpPr/>
          <p:nvPr/>
        </p:nvSpPr>
        <p:spPr>
          <a:xfrm>
            <a:off x="826920" y="476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Czy już wiesz ile kwiatów zostało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ole tekstowe 4"/>
          <p:cNvSpPr/>
          <p:nvPr/>
        </p:nvSpPr>
        <p:spPr>
          <a:xfrm>
            <a:off x="900000" y="1125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Trebuchet MS"/>
              </a:rPr>
              <a:t>40 – 7 = 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ole tekstowe 5"/>
          <p:cNvSpPr/>
          <p:nvPr/>
        </p:nvSpPr>
        <p:spPr>
          <a:xfrm>
            <a:off x="971640" y="2205000"/>
            <a:ext cx="374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Świetnie </a:t>
            </a:r>
            <a:r>
              <a:rPr b="0" lang="pl-PL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Trebuchet MS"/>
              </a:rPr>
              <a:t>40 – 7 = 33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ole tekstowe 6"/>
          <p:cNvSpPr/>
          <p:nvPr/>
        </p:nvSpPr>
        <p:spPr>
          <a:xfrm>
            <a:off x="826920" y="378936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 zeszycie do matematyki wpisz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Temat: Odejmuję liczby jednocyfrowe od pełnych dziesiątek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Przepisz i oblicz w zeszycie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0 – 5 =           10 – 1 =                10 - 2 =              10 - 6 =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0 – 5 =            90 -1 =                70 – 2 =               40 – 6 =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2:51:01Z</dcterms:created>
  <dc:creator>DOM</dc:creator>
  <dc:description/>
  <dc:language>en-US</dc:language>
  <cp:lastModifiedBy>DOM</cp:lastModifiedBy>
  <dcterms:modified xsi:type="dcterms:W3CDTF">2020-03-30T20:36:14Z</dcterms:modified>
  <cp:revision>8</cp:revision>
  <dc:subject/>
  <dc:title>Prezentacja programu PowerPoint</dc:title>
</cp:coreProperties>
</file>