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6670-A151-4DDE-BCBB-8CC41520160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F2EC-81FD-4875-8686-FDD1F48FD82F}" type="slidenum"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F01A-5F03-48BB-875B-2C53BC55B055}" type="slidenum"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8E77-846F-423F-B3E1-FF1D2566FB8E}" type="slidenum"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35D6-CB15-4E13-8C8E-E412CCB4D356}" type="slidenum"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5CBD-3109-4A83-8646-A1101F5701FE}" type="slidenum"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4054-F9D3-4C9B-81BA-FD695ED4B833}" type="slidenum"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CA97-9624-4DB5-B991-B850DB5DB95E}" type="slidenum"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E288-2C36-4A11-9E7C-8CDB3613F4A2}" type="slidenum"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7999-48EA-42FE-ACCF-532A02A69CEA}" type="slidenum"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D3C3-66AE-4F38-AE8F-31057D889E9B}" type="slidenum"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C3AD-3E10-4987-BBCB-241DBF5E7E6D}" type="slidenum"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129D-DE7F-44E4-B9D2-9557F95AA962}" type="slidenum"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665D-7190-4304-A12B-35633E299AB9}" type="slidenum"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CC72-4E77-439E-A699-70A9723B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09E9-7E46-453D-BFB7-23CE5E25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640-7199-4665-8197-CA1A5C5F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CBB5-9945-4A87-A368-FE2556CC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67DC-E5C4-4C8F-A134-C10510DC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1963-2597-4CF2-A64D-32BD3329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9874-D2B6-427B-9414-7BB4448D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573C-E220-4AB1-8E94-B7850437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D4DC-5918-459D-ABB4-19FABFFD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0CA2-9864-40E8-BFA4-8E0476C4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6F88-7802-44AB-A839-8EF3BC10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2C83-86BD-420E-84BF-B8F198EC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2F9B-2AFA-4F87-BFC5-CDF40E13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6058-903D-4C27-9793-09DEAF68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0715-0094-4A9D-A494-171295C6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4349-D19E-493E-B57E-AF2B8252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9A7B-6B4D-4FCB-A6E6-71762046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80B-D715-4F9A-B93C-694C399D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B642-52D2-49B2-8F4C-FE4B4B87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90FD-BE3F-4D2A-B70D-EB657B83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C74F-44A2-4AC3-9046-C388017A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A7F6-7930-4320-9B50-745B4E4F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2B14-C8FA-4816-B9A0-B5B5FAC5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5071-A5F7-41B3-855F-525F4CC8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16CA-B946-4F03-A9A1-89218BCC894E}" type="slidenum">
              <a:rPr b="0" lang="pl-PL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A356-8E61-404B-9B02-062902E3CDCB}" type="slidenum">
              <a:rPr b="0" lang="pl-PL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ranos.org.pl/biogr/galbig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1197000"/>
            <a:ext cx="7684920" cy="185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cc00"/>
                </a:solidFill>
                <a:latin typeface="Arial"/>
              </a:rPr>
              <a:t>Architektura i sztuka baroku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cc00"/>
                </a:solidFill>
                <a:latin typeface="Arial"/>
              </a:rPr>
              <a:t>Architektura i sztuka barok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2276280"/>
            <a:ext cx="7926120" cy="37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Barok to także rozkwit malarstwa sztalugowego. Tworzyli wtedy tak wielcy mistrzowie, jak Caravaggio, Rubens czy Rembrandt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Oglądając kolejne slajdy, zwróć uwagę na charakterystyczne cechy stylu mistrzów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cc00"/>
                </a:solidFill>
                <a:latin typeface="Arial"/>
              </a:rPr>
              <a:t>Architektura i sztuka barok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6" name="Picture 3" descr="19-20"/>
          <p:cNvPicPr/>
          <p:nvPr/>
        </p:nvPicPr>
        <p:blipFill>
          <a:blip r:embed="rId1"/>
          <a:stretch/>
        </p:blipFill>
        <p:spPr>
          <a:xfrm>
            <a:off x="5076720" y="1628640"/>
            <a:ext cx="2584440" cy="3767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aravaggioemmaus"/>
          <p:cNvPicPr/>
          <p:nvPr/>
        </p:nvPicPr>
        <p:blipFill>
          <a:blip r:embed="rId2"/>
          <a:stretch/>
        </p:blipFill>
        <p:spPr>
          <a:xfrm>
            <a:off x="395280" y="1916280"/>
            <a:ext cx="4348080" cy="3350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250920" y="544500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W malarstwie Caravaggia dominują sceny biblijne.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Na zdjęciach: </a:t>
            </a:r>
            <a:r>
              <a:rPr b="0" i="1" lang="pl-PL" sz="2000" spc="-1" strike="noStrike">
                <a:solidFill>
                  <a:srgbClr val="ffffcc"/>
                </a:solidFill>
                <a:latin typeface="Arial"/>
              </a:rPr>
              <a:t>Kolacja w Emmaus</a:t>
            </a: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i </a:t>
            </a:r>
            <a:r>
              <a:rPr b="0" i="1" lang="pl-PL" sz="2000" spc="-1" strike="noStrike">
                <a:solidFill>
                  <a:srgbClr val="ffffcc"/>
                </a:solidFill>
                <a:latin typeface="Arial"/>
              </a:rPr>
              <a:t>Złożenie do grobu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cc00"/>
                </a:solidFill>
                <a:latin typeface="Arial"/>
              </a:rPr>
              <a:t>Architektura i sztuka barok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0" name="Picture 3" descr="three_graces"/>
          <p:cNvPicPr/>
          <p:nvPr/>
        </p:nvPicPr>
        <p:blipFill>
          <a:blip r:embed="rId1"/>
          <a:stretch/>
        </p:blipFill>
        <p:spPr>
          <a:xfrm>
            <a:off x="468360" y="2060640"/>
            <a:ext cx="3476520" cy="4343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4319640" y="2133720"/>
            <a:ext cx="4645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Najpopularniejszym dziełem Rubensa są </a:t>
            </a:r>
            <a:r>
              <a:rPr b="0" i="1" lang="pl-PL" sz="2400" spc="-1" strike="noStrike">
                <a:solidFill>
                  <a:srgbClr val="ffffcc"/>
                </a:solidFill>
                <a:latin typeface="Arial"/>
              </a:rPr>
              <a:t>Trzy gracje</a:t>
            </a: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Zwróć uwagę na charakterystyczny styl tego artyst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cc00"/>
                </a:solidFill>
                <a:latin typeface="Arial"/>
              </a:rPr>
              <a:t>Architektura i sztuka barok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3" name="Picture 3" descr="19-48"/>
          <p:cNvPicPr/>
          <p:nvPr/>
        </p:nvPicPr>
        <p:blipFill>
          <a:blip r:embed="rId1"/>
          <a:stretch/>
        </p:blipFill>
        <p:spPr>
          <a:xfrm>
            <a:off x="4788000" y="1989000"/>
            <a:ext cx="4038480" cy="3230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rembrandt"/>
          <p:cNvPicPr/>
          <p:nvPr/>
        </p:nvPicPr>
        <p:blipFill>
          <a:blip r:embed="rId2"/>
          <a:stretch/>
        </p:blipFill>
        <p:spPr>
          <a:xfrm>
            <a:off x="179280" y="1916280"/>
            <a:ext cx="4386240" cy="32875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900000" y="5300640"/>
            <a:ext cx="6985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Rembrandt malował sceny z życia mieszczan.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Powyżej: </a:t>
            </a:r>
            <a:r>
              <a:rPr b="0" i="1" lang="pl-PL" sz="2000" spc="-1" strike="noStrike">
                <a:solidFill>
                  <a:srgbClr val="ffffcc"/>
                </a:solidFill>
                <a:latin typeface="Arial"/>
              </a:rPr>
              <a:t>Lekcja anatomii doktora Tulpa</a:t>
            </a: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i </a:t>
            </a:r>
            <a:r>
              <a:rPr b="0" i="1" lang="pl-PL" sz="2000" spc="-1" strike="noStrike">
                <a:solidFill>
                  <a:srgbClr val="ffffcc"/>
                </a:solidFill>
                <a:latin typeface="Arial"/>
              </a:rPr>
              <a:t>Straż nocna</a:t>
            </a:r>
            <a:r>
              <a:rPr b="0" lang="pl-P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cc00"/>
                </a:solidFill>
                <a:latin typeface="Arial"/>
              </a:rPr>
              <a:t>Architektura i sztuka barok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320" y="2060640"/>
            <a:ext cx="402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W baroku swój rozkwit przeżywała rzeźba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Jednym z najlepszych przykładów barokowej rzeźby jest </a:t>
            </a:r>
            <a:r>
              <a:rPr b="0" i="1" lang="pl-PL" sz="2400" spc="-1" strike="noStrike">
                <a:solidFill>
                  <a:srgbClr val="ffffcc"/>
                </a:solidFill>
                <a:latin typeface="Arial"/>
              </a:rPr>
              <a:t>Ekstaza świętej Teresy</a:t>
            </a: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 Berniniego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Picture 6" descr="19-13"/>
          <p:cNvPicPr/>
          <p:nvPr/>
        </p:nvPicPr>
        <p:blipFill>
          <a:blip r:embed="rId1"/>
          <a:stretch/>
        </p:blipFill>
        <p:spPr>
          <a:xfrm>
            <a:off x="4500720" y="1844640"/>
            <a:ext cx="2912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295200"/>
            <a:ext cx="8637480" cy="118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cc00"/>
                </a:solidFill>
                <a:latin typeface="Arial Black"/>
              </a:rPr>
              <a:t>Rozwój nauk empirycznych</a:t>
            </a:r>
            <a:br>
              <a:rPr sz="40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716360" y="1268280"/>
            <a:ext cx="41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Arial"/>
              </a:rPr>
              <a:t>Wiek XVI, XVII i XVIII to dalszy rozwój nauk empirycznych. Chemia powoli zaczęła się wyzwalać z zabobonu alchemii, powstały podstawy naukowej medycyny; William Harvey odkrył podwójny obieg krwi i przeprowadził, korzystając z metod wprowadzonych w XVI wieku przez ojca nowoczesnej anatomii Wesaliusza, liczne doświadczenia na zwierzętach, a także badania nad ciałem człowieka. Dzięki mikroskopowi biologia odkryła tajemniczy, niewidoczny gołym okiem świat, opisany przez Roberta Hooke'a w dziele </a:t>
            </a:r>
            <a:r>
              <a:rPr b="1" i="1" lang="pl-PL" sz="1800" spc="-1" strike="noStrike">
                <a:solidFill>
                  <a:srgbClr val="ffffcc"/>
                </a:solidFill>
                <a:latin typeface="Arial"/>
              </a:rPr>
              <a:t>Micrographia</a:t>
            </a:r>
            <a:r>
              <a:rPr b="1" lang="pl-PL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301680" y="1916280"/>
            <a:ext cx="3960720" cy="42145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410760" y="6149520"/>
            <a:ext cx="49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Arial"/>
              </a:rPr>
              <a:t>Mikroskop Hooke'a (z 1665 roku)</a:t>
            </a: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00"/>
                </a:solidFill>
                <a:latin typeface="Arial Black"/>
              </a:rPr>
              <a:t>Wielcy uczeni baroku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739600" y="981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cc00"/>
                </a:solidFill>
                <a:latin typeface="Arial Black"/>
              </a:rPr>
              <a:t>Galileusz 1564-164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Picture 6" descr="[Galileusz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16280"/>
            <a:ext cx="3479760" cy="453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4572000" y="2276640"/>
            <a:ext cx="4103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cc"/>
                </a:solidFill>
                <a:latin typeface="Arial"/>
              </a:rPr>
              <a:t>Włoski fizyk, matematyk, astronom i filozof, twórca podstaw ksperymentalnych metod w przyrodoznawstwie, a także, dzięki opracowaniu lunety astronomicznej, podstaw współczesnej astronomii obserwacyjnej.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cc00"/>
                </a:solidFill>
                <a:latin typeface="Arial Black"/>
              </a:rPr>
              <a:t>Osiągnięcia Galileusza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Verdana"/>
              </a:rPr>
              <a:t>1581: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Verdana"/>
              </a:rPr>
              <a:t>Zbadał prawa ruchu wahadła (izochronizm)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Verdana"/>
              </a:rPr>
              <a:t>1609: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Verdana"/>
              </a:rPr>
              <a:t>Zbudował pierwszy lunetę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Verdana"/>
              </a:rPr>
              <a:t>1611: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Verdana"/>
              </a:rPr>
              <a:t>Opublikował opisy swoich obserwacji astronomicznych w dziele „</a:t>
            </a:r>
            <a:r>
              <a:rPr b="1" i="1" lang="pl-PL" sz="1800" spc="-1" strike="noStrike">
                <a:solidFill>
                  <a:srgbClr val="ffffcc"/>
                </a:solidFill>
                <a:latin typeface="Verdana"/>
              </a:rPr>
              <a:t>Gwiezdny posłaniec</a:t>
            </a:r>
            <a:r>
              <a:rPr b="1" lang="pl-PL" sz="1800" spc="-1" strike="noStrike">
                <a:solidFill>
                  <a:srgbClr val="ffffcc"/>
                </a:solidFill>
                <a:latin typeface="Verdana"/>
              </a:rPr>
              <a:t>", w tym: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Verdana"/>
              </a:rPr>
              <a:t>- kratery na Księżycu;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Verdana"/>
              </a:rPr>
              <a:t>- plamy na Słońcu, dzięki którym stwierdził obrót Słońca wokół osi i wyznaczył okres jego obrotu;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Verdana"/>
              </a:rPr>
              <a:t>- cztery największe księżyce Jowisza (zwane do dziś „galileuszowymi")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Verdana"/>
              </a:rPr>
              <a:t>1613: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Verdana"/>
              </a:rPr>
              <a:t>Zaobserwował fazy Wenus, jeden z ważniejszych wtedy dowodów na słuszność heliocentrycznego systemu Kopernika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173160"/>
            <a:ext cx="8637480" cy="131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cc00"/>
                </a:solidFill>
                <a:latin typeface="Arial"/>
              </a:rPr>
              <a:t>Isaac Newton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5292720" y="1773360"/>
            <a:ext cx="3095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Arial"/>
              </a:rPr>
              <a:t>W swoim słynnym dziele </a:t>
            </a:r>
            <a:r>
              <a:rPr b="1" i="1" lang="pl-PL" sz="2400" spc="-1" strike="noStrike">
                <a:solidFill>
                  <a:srgbClr val="ffffcc"/>
                </a:solidFill>
                <a:latin typeface="Arial"/>
              </a:rPr>
              <a:t>Philosophiae Naturalis Principia Mathematica</a:t>
            </a:r>
            <a:r>
              <a:rPr b="1" lang="pl-PL" sz="2400" spc="-1" strike="noStrike">
                <a:solidFill>
                  <a:srgbClr val="ffffcc"/>
                </a:solidFill>
                <a:latin typeface="Arial"/>
              </a:rPr>
              <a:t> przedstawił prawo powszechnego ciążenia, a także prawa ruchu leżące u podstaw mechaniki klasycznej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34131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4247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cc00"/>
                </a:solidFill>
                <a:latin typeface="Arial"/>
              </a:rPr>
              <a:t>Charakterystyka stylu – Muzyka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710240" y="1814400"/>
            <a:ext cx="414000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Muzyka baroku nauczyła się korzystać z wielu środków wyrazu i posługiwała się bogatą stylistyką. Rozwinęła się opera, oratorium i kantata, muzyka instrumentalna sięgnęła też po takie formy jak sonaty, koncerty i uwertury. Do największych twórców epoki baroku zaliczają się przede wszystkim Jana Sebastiana Bacha, Jerzego Fryderyka Händla oraz Antonia Vivaldiego</a:t>
            </a:r>
            <a:r>
              <a:rPr b="0" lang="pl-PL" sz="24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Obraz 1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40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00"/>
                </a:solidFill>
                <a:latin typeface="Arial"/>
              </a:rPr>
              <a:t>Barok - definicj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ole tekstowe 5"/>
          <p:cNvSpPr/>
          <p:nvPr/>
        </p:nvSpPr>
        <p:spPr>
          <a:xfrm>
            <a:off x="1000080" y="1844640"/>
            <a:ext cx="767556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cc"/>
                </a:solidFill>
                <a:latin typeface="Arial"/>
              </a:rPr>
              <a:t>Barok – epoka w dziejach kultury europejskiej, zapoczątkowana soborem trydenckim, która przypada na okres od połowy XVI do początku XVIII w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l-PL" sz="21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pl-PL" sz="2100" spc="-1" strike="noStrike">
                <a:solidFill>
                  <a:srgbClr val="ffffcc"/>
                </a:solidFill>
                <a:latin typeface="Arial"/>
              </a:rPr>
              <a:t>Epokę tę cechuje: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odrzucenie renesansowego ładu i harmonii,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położenie nacisku na ruch, kontrast i dynamikę, 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wykorzystanie sztuki i architektury do umacniania   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wiary katolickiej i nawracania innowierców, 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przepych i bogactwo form,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łączenie różnych elementów,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posługiwanie się alegorią i personifikacją.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317520" y="1990800"/>
            <a:ext cx="2481120" cy="3473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2"/>
          <a:stretch/>
        </p:blipFill>
        <p:spPr>
          <a:xfrm>
            <a:off x="3340080" y="1916280"/>
            <a:ext cx="2592360" cy="3511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"/>
          <p:cNvPicPr/>
          <p:nvPr/>
        </p:nvPicPr>
        <p:blipFill>
          <a:blip r:embed="rId3"/>
          <a:stretch/>
        </p:blipFill>
        <p:spPr>
          <a:xfrm>
            <a:off x="6367320" y="1925640"/>
            <a:ext cx="2587680" cy="34732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1"/>
          <p:cNvSpPr/>
          <p:nvPr/>
        </p:nvSpPr>
        <p:spPr>
          <a:xfrm>
            <a:off x="468360" y="5670720"/>
            <a:ext cx="26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cc"/>
                </a:solidFill>
                <a:latin typeface="Arial"/>
              </a:rPr>
              <a:t>Jan Sebastian Bach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3519360" y="5664240"/>
            <a:ext cx="234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cc"/>
                </a:solidFill>
                <a:latin typeface="Arial"/>
              </a:rPr>
              <a:t>Jerzy Fryderyk Hände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6672240" y="566424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cc"/>
                </a:solidFill>
                <a:latin typeface="Arial"/>
              </a:rPr>
              <a:t>Antonia Vivaldieg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cc00"/>
                </a:solidFill>
                <a:latin typeface="Arial"/>
              </a:rPr>
              <a:t>Architektura i sztuka barok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Za początek baroku </a:t>
            </a:r>
            <a:br>
              <a:rPr sz="2400"/>
            </a:b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w architekturze uważa się rzymski kościół Il Gesu, zaprojektowany przez Giacomo da Vignola</a:t>
            </a:r>
            <a:br>
              <a:rPr sz="2400"/>
            </a:b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i Giacomo della Porta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Picture 6" descr="zgesu"/>
          <p:cNvPicPr/>
          <p:nvPr/>
        </p:nvPicPr>
        <p:blipFill>
          <a:blip r:embed="rId1"/>
          <a:stretch/>
        </p:blipFill>
        <p:spPr>
          <a:xfrm>
            <a:off x="504720" y="1941480"/>
            <a:ext cx="3675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cc00"/>
                </a:solidFill>
                <a:latin typeface="Arial"/>
              </a:rPr>
              <a:t>Architektura i sztuka barok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5486400"/>
            <a:ext cx="8569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Także wnętrze kościoła posiada wiele charakterystycznych cech. Spróbuj je znaleźć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3" name="Picture 6" descr="033bg"/>
          <p:cNvPicPr/>
          <p:nvPr/>
        </p:nvPicPr>
        <p:blipFill>
          <a:blip r:embed="rId1"/>
          <a:stretch/>
        </p:blipFill>
        <p:spPr>
          <a:xfrm>
            <a:off x="2050920" y="1916280"/>
            <a:ext cx="50292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cc00"/>
                </a:solidFill>
                <a:latin typeface="Arial"/>
              </a:rPr>
              <a:t>Architektura i sztuka barok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5" name="Picture 3" descr="19-6"/>
          <p:cNvPicPr/>
          <p:nvPr/>
        </p:nvPicPr>
        <p:blipFill>
          <a:blip r:embed="rId1"/>
          <a:stretch/>
        </p:blipFill>
        <p:spPr>
          <a:xfrm>
            <a:off x="468360" y="2133720"/>
            <a:ext cx="4267080" cy="297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19-5"/>
          <p:cNvPicPr/>
          <p:nvPr/>
        </p:nvPicPr>
        <p:blipFill>
          <a:blip r:embed="rId2"/>
          <a:stretch/>
        </p:blipFill>
        <p:spPr>
          <a:xfrm>
            <a:off x="5435640" y="2060640"/>
            <a:ext cx="3033720" cy="3962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250920" y="5445000"/>
            <a:ext cx="51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W stylu barokowym została też wykończona przez Gianlorenzo Berniniego Bazylika Świętego Pio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cc00"/>
                </a:solidFill>
                <a:latin typeface="Arial"/>
              </a:rPr>
              <a:t>Architektura i sztuka barok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08280" y="2060280"/>
            <a:ext cx="402876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Barokowi architekci coraz częściej projektowali pałace i luksusowe rezydencj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Jednym z najbardziej znanych barokowych pałaców autorstwa Louisa le Vau i Joulesa Hardina-Mansarta jest pałac w Wersalu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0" name="Picture 6" descr="!versailles"/>
          <p:cNvPicPr/>
          <p:nvPr/>
        </p:nvPicPr>
        <p:blipFill>
          <a:blip r:embed="rId1"/>
          <a:stretch/>
        </p:blipFill>
        <p:spPr>
          <a:xfrm>
            <a:off x="250920" y="2276640"/>
            <a:ext cx="4027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cc00"/>
                </a:solidFill>
                <a:latin typeface="Arial"/>
              </a:rPr>
              <a:t>Architektura i sztuka barok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Picture 3" descr="water4"/>
          <p:cNvPicPr/>
          <p:nvPr/>
        </p:nvPicPr>
        <p:blipFill>
          <a:blip r:embed="rId1"/>
          <a:stretch/>
        </p:blipFill>
        <p:spPr>
          <a:xfrm>
            <a:off x="228600" y="1981080"/>
            <a:ext cx="4038480" cy="3200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orangery2"/>
          <p:cNvPicPr/>
          <p:nvPr/>
        </p:nvPicPr>
        <p:blipFill>
          <a:blip r:embed="rId2"/>
          <a:stretch/>
        </p:blipFill>
        <p:spPr>
          <a:xfrm>
            <a:off x="4572000" y="198108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80880" y="54100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W architekturze wielkiego znaczenia nabrał nie tylko sam budynek, ale także jego otoczenie, na przykład wielkie ogrody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00"/>
                </a:solidFill>
                <a:latin typeface="Arial"/>
              </a:rPr>
              <a:t>Architektura i sztuka barok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84720" y="1941480"/>
            <a:ext cx="468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Budowle sakralne według wskazań soboru trydenckiego miały olśniewać wiernych swoim przepychem </a:t>
            </a:r>
            <a:br>
              <a:rPr sz="2400"/>
            </a:b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i przekazywać treści biblijne. Stąd pojawiło się malarstwo iluzjonistyczne, dzięki któremu sklepienie kościoła mogło wydawać się niebem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Obok malowidło </a:t>
            </a:r>
            <a:r>
              <a:rPr b="0" lang="pl-PL" sz="2400" spc="-1" strike="noStrike">
                <a:solidFill>
                  <a:srgbClr val="ffffcc"/>
                </a:solidFill>
                <a:latin typeface="Arial"/>
                <a:ea typeface="Arial"/>
              </a:rPr>
              <a:t>Pietro da Corton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Picture 6" descr="cortonabarberiniA3"/>
          <p:cNvPicPr/>
          <p:nvPr/>
        </p:nvPicPr>
        <p:blipFill>
          <a:blip r:embed="rId1"/>
          <a:stretch/>
        </p:blipFill>
        <p:spPr>
          <a:xfrm>
            <a:off x="468360" y="1989000"/>
            <a:ext cx="334944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cc00"/>
                </a:solidFill>
                <a:latin typeface="Arial"/>
              </a:rPr>
              <a:t>Architektura i sztuka barok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9" name="Picture 3" descr="pozzoignazio2"/>
          <p:cNvPicPr/>
          <p:nvPr/>
        </p:nvPicPr>
        <p:blipFill>
          <a:blip r:embed="rId1"/>
          <a:stretch/>
        </p:blipFill>
        <p:spPr>
          <a:xfrm>
            <a:off x="755640" y="1916280"/>
            <a:ext cx="2895480" cy="3733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gaulligesu3"/>
          <p:cNvPicPr/>
          <p:nvPr/>
        </p:nvPicPr>
        <p:blipFill>
          <a:blip r:embed="rId2"/>
          <a:stretch/>
        </p:blipFill>
        <p:spPr>
          <a:xfrm>
            <a:off x="5435640" y="1628640"/>
            <a:ext cx="2612880" cy="3745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324000" y="5759280"/>
            <a:ext cx="3630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Arial"/>
                <a:ea typeface="Arial"/>
              </a:rPr>
              <a:t>Andrea Pozzo, </a:t>
            </a:r>
            <a:r>
              <a:rPr b="0" i="1" lang="pl-PL" sz="1800" spc="-1" strike="noStrike">
                <a:solidFill>
                  <a:srgbClr val="ffffcc"/>
                </a:solidFill>
                <a:latin typeface="Arial"/>
              </a:rPr>
              <a:t>Tryumf świętego Ignacego Loyol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003640" y="5516640"/>
            <a:ext cx="33530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Arial"/>
                <a:ea typeface="Arial"/>
              </a:rPr>
              <a:t>Baciccio (G. B. Gaulli),</a:t>
            </a:r>
            <a:r>
              <a:rPr b="0" lang="pl-PL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ffffcc"/>
                </a:solidFill>
                <a:latin typeface="Arial"/>
              </a:rPr>
              <a:t>Tryumf Imienia Jezus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8T10:10:09Z</dcterms:created>
  <dc:creator>aaa</dc:creator>
  <dc:description/>
  <dc:language>en-US</dc:language>
  <cp:lastModifiedBy>marcinkarlo12@gmail.com</cp:lastModifiedBy>
  <dcterms:modified xsi:type="dcterms:W3CDTF">2020-03-25T16:58:21Z</dcterms:modified>
  <cp:revision>38</cp:revision>
  <dc:subject/>
  <dc:title>Architektura i sztuka baroku</dc:title>
</cp:coreProperties>
</file>