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8F95-43BB-41B5-B332-2B530DBA221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28BC-86B0-4BA2-A447-45056EC0C0A8}" type="slidenum"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6FEA-DA81-40BF-89F2-898285579933}" type="slidenum"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E753-FF19-453E-8DDD-771EDF76D68E}" type="slidenum"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09FF-C1E1-4C55-964F-32A53C9FB163}" type="slidenum"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2B5C-9FA9-4C9B-80AA-80AAC5590A6B}" type="slidenum"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95E6-FAE5-4C14-A4F6-F5CF6980B183}" type="slidenum"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BF54-EF7F-4BFE-8D87-1B0461DDA1C4}" type="slidenum"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CD4E-6219-4569-B2E5-A78E6CF24019}" type="slidenum"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F151-32B7-4358-9839-BCCD35E067C5}" type="slidenum"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7031-26BD-4683-8C90-95BDF5315056}" type="slidenum"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6DFE-2678-465B-81B1-5D3218CAE226}" type="slidenum"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8BBB-430B-4DFF-B79B-C59F2D468A45}" type="slidenum"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7760-0B83-4B1B-B5A6-1EB4256E75B9}" type="slidenum"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132E-CD3B-407D-9574-7FF262D2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5D77-0992-4834-99EF-3D303872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570C-0702-4DD4-9DBF-73321FDE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BF97-47F8-4813-98D0-C1711E06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AF09-A823-44B4-814F-80FCA9B0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0596-4209-4C2B-9A11-34610478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ACF0-CC1E-4F16-87B7-4E4946BF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3020-C493-459A-A79E-515C8F57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35F5-EB6B-44C2-8C4F-A9C72382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1B61-201A-4A9B-AD8C-613324FA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84A1-CAD1-4703-A71F-3D15EF28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AF23-F646-4932-8795-AF6AD561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55B3-7CAE-4ED1-AACA-C20BA1BC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AAD0-EFAE-4803-B8E3-A7A033CD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3AB1-0E4E-416D-A4B0-1AA78FC6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8109-888F-4C90-821C-5A6CB99C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F356-7DF1-43E9-9AC0-02F7D991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5FB0-9928-4DF0-81A6-A889C669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BE99-581D-4EFB-A104-73F018B0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E4B2-D29C-4BB3-B66A-4653058B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F1FF-F8CD-41F8-AF7C-902CAD4A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0F70-056A-47C5-BC21-84C9453B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1228-809B-41B7-BB14-A48D278C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4A94-ACC8-40B9-BA92-391382A8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0524-8FC2-4D01-827E-A1AE6592AA36}" type="slidenum">
              <a:rPr b="0" lang="pl-PL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936E-3772-4D38-9C57-B55B098EB814}" type="slidenum">
              <a:rPr b="0" lang="pl-PL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ranos.org.pl/biogr/galbig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1197000"/>
            <a:ext cx="7684920" cy="185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cc00"/>
                </a:solidFill>
                <a:latin typeface="Arial"/>
              </a:rPr>
              <a:t>Architektura i sztuka baroku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cc00"/>
                </a:solidFill>
                <a:latin typeface="Arial"/>
              </a:rPr>
              <a:t>Architektura i sztuka barok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2276280"/>
            <a:ext cx="7926120" cy="37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Barok to także rozkwit malarstwa sztalugowego. Tworzyli wtedy tak wielcy mistrzowie, jak Caravaggio, Rubens czy Rembrandt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Oglądając kolejne slajdy, zwróć uwagę na charakterystyczne cechy stylu mistrzów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cc00"/>
                </a:solidFill>
                <a:latin typeface="Arial"/>
              </a:rPr>
              <a:t>Architektura i sztuka barok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6" name="Picture 3" descr="19-20"/>
          <p:cNvPicPr/>
          <p:nvPr/>
        </p:nvPicPr>
        <p:blipFill>
          <a:blip r:embed="rId1"/>
          <a:stretch/>
        </p:blipFill>
        <p:spPr>
          <a:xfrm>
            <a:off x="5076720" y="1628640"/>
            <a:ext cx="2584440" cy="3767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aravaggioemmaus"/>
          <p:cNvPicPr/>
          <p:nvPr/>
        </p:nvPicPr>
        <p:blipFill>
          <a:blip r:embed="rId2"/>
          <a:stretch/>
        </p:blipFill>
        <p:spPr>
          <a:xfrm>
            <a:off x="395280" y="1916280"/>
            <a:ext cx="4348080" cy="3350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250920" y="544500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W malarstwie Caravaggia dominują sceny biblijne.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Na zdjęciach: </a:t>
            </a:r>
            <a:r>
              <a:rPr b="0" i="1" lang="pl-PL" sz="2000" spc="-1" strike="noStrike">
                <a:solidFill>
                  <a:srgbClr val="ffffcc"/>
                </a:solidFill>
                <a:latin typeface="Arial"/>
              </a:rPr>
              <a:t>Kolacja w Emmaus</a:t>
            </a: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i </a:t>
            </a:r>
            <a:r>
              <a:rPr b="0" i="1" lang="pl-PL" sz="2000" spc="-1" strike="noStrike">
                <a:solidFill>
                  <a:srgbClr val="ffffcc"/>
                </a:solidFill>
                <a:latin typeface="Arial"/>
              </a:rPr>
              <a:t>Złożenie do grobu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cc00"/>
                </a:solidFill>
                <a:latin typeface="Arial"/>
              </a:rPr>
              <a:t>Architektura i sztuka barok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0" name="Picture 3" descr="three_graces"/>
          <p:cNvPicPr/>
          <p:nvPr/>
        </p:nvPicPr>
        <p:blipFill>
          <a:blip r:embed="rId1"/>
          <a:stretch/>
        </p:blipFill>
        <p:spPr>
          <a:xfrm>
            <a:off x="468360" y="2060640"/>
            <a:ext cx="3476520" cy="4343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4319640" y="2133720"/>
            <a:ext cx="4645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Najpopularniejszym dziełem Rubensa są </a:t>
            </a:r>
            <a:r>
              <a:rPr b="0" i="1" lang="pl-PL" sz="2400" spc="-1" strike="noStrike">
                <a:solidFill>
                  <a:srgbClr val="ffffcc"/>
                </a:solidFill>
                <a:latin typeface="Arial"/>
              </a:rPr>
              <a:t>Trzy gracje</a:t>
            </a: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Zwróć uwagę na charakterystyczny styl tego artyst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cc00"/>
                </a:solidFill>
                <a:latin typeface="Arial"/>
              </a:rPr>
              <a:t>Architektura i sztuka barok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3" name="Picture 3" descr="19-48"/>
          <p:cNvPicPr/>
          <p:nvPr/>
        </p:nvPicPr>
        <p:blipFill>
          <a:blip r:embed="rId1"/>
          <a:stretch/>
        </p:blipFill>
        <p:spPr>
          <a:xfrm>
            <a:off x="4788000" y="1989000"/>
            <a:ext cx="4038480" cy="3230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rembrandt"/>
          <p:cNvPicPr/>
          <p:nvPr/>
        </p:nvPicPr>
        <p:blipFill>
          <a:blip r:embed="rId2"/>
          <a:stretch/>
        </p:blipFill>
        <p:spPr>
          <a:xfrm>
            <a:off x="179280" y="1916280"/>
            <a:ext cx="4386240" cy="32875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900000" y="5300640"/>
            <a:ext cx="6985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Rembrandt malował sceny z życia mieszczan.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Powyżej: </a:t>
            </a:r>
            <a:r>
              <a:rPr b="0" i="1" lang="pl-PL" sz="2000" spc="-1" strike="noStrike">
                <a:solidFill>
                  <a:srgbClr val="ffffcc"/>
                </a:solidFill>
                <a:latin typeface="Arial"/>
              </a:rPr>
              <a:t>Lekcja anatomii doktora Tulpa</a:t>
            </a: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 i </a:t>
            </a:r>
            <a:r>
              <a:rPr b="0" i="1" lang="pl-PL" sz="2000" spc="-1" strike="noStrike">
                <a:solidFill>
                  <a:srgbClr val="ffffcc"/>
                </a:solidFill>
                <a:latin typeface="Arial"/>
              </a:rPr>
              <a:t>Straż nocna</a:t>
            </a:r>
            <a:r>
              <a:rPr b="0" lang="pl-P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cc00"/>
                </a:solidFill>
                <a:latin typeface="Arial"/>
              </a:rPr>
              <a:t>Architektura i sztuka barok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320" y="2060640"/>
            <a:ext cx="402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W baroku swój rozkwit przeżywała rzeźba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Jednym z najlepszych przykładów barokowej rzeźby jest </a:t>
            </a:r>
            <a:r>
              <a:rPr b="0" i="1" lang="pl-PL" sz="2400" spc="-1" strike="noStrike">
                <a:solidFill>
                  <a:srgbClr val="ffffcc"/>
                </a:solidFill>
                <a:latin typeface="Arial"/>
              </a:rPr>
              <a:t>Ekstaza świętej Teresy</a:t>
            </a: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 Berniniego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Picture 6" descr="19-13"/>
          <p:cNvPicPr/>
          <p:nvPr/>
        </p:nvPicPr>
        <p:blipFill>
          <a:blip r:embed="rId1"/>
          <a:stretch/>
        </p:blipFill>
        <p:spPr>
          <a:xfrm>
            <a:off x="4500720" y="1844640"/>
            <a:ext cx="2912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295200"/>
            <a:ext cx="8637480" cy="118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cc00"/>
                </a:solidFill>
                <a:latin typeface="Arial Black"/>
              </a:rPr>
              <a:t>Rozwój nauk empirycznych</a:t>
            </a:r>
            <a:br>
              <a:rPr sz="40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716360" y="1268280"/>
            <a:ext cx="41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Arial"/>
              </a:rPr>
              <a:t>Wiek XVI, XVII i XVIII to dalszy rozwój nauk empirycznych. Chemia powoli zaczęła się wyzwalać z zabobonu alchemii, powstały podstawy naukowej medycyny; William Harvey odkrył podwójny obieg krwi i przeprowadził, korzystając z metod wprowadzonych w XVI wieku przez ojca nowoczesnej anatomii Wesaliusza, liczne doświadczenia na zwierzętach, a także badania nad ciałem człowieka. Dzięki mikroskopowi biologia odkryła tajemniczy, niewidoczny gołym okiem świat, opisany przez Roberta Hooke'a w dziele </a:t>
            </a:r>
            <a:r>
              <a:rPr b="1" i="1" lang="pl-PL" sz="1800" spc="-1" strike="noStrike">
                <a:solidFill>
                  <a:srgbClr val="ffffcc"/>
                </a:solidFill>
                <a:latin typeface="Arial"/>
              </a:rPr>
              <a:t>Micrographia</a:t>
            </a:r>
            <a:r>
              <a:rPr b="1" lang="pl-PL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301680" y="1916280"/>
            <a:ext cx="3960720" cy="42145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410760" y="6149520"/>
            <a:ext cx="49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Arial"/>
              </a:rPr>
              <a:t>Mikroskop Hooke'a (z 1665 roku)</a:t>
            </a: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00"/>
                </a:solidFill>
                <a:latin typeface="Arial Black"/>
              </a:rPr>
              <a:t>Wielcy uczeni baroku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739600" y="981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cc00"/>
                </a:solidFill>
                <a:latin typeface="Arial Black"/>
              </a:rPr>
              <a:t>Galileusz 1564-164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Picture 6" descr="[Galileusz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16280"/>
            <a:ext cx="3479760" cy="453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4572000" y="2276640"/>
            <a:ext cx="4103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cc"/>
                </a:solidFill>
                <a:latin typeface="Arial"/>
              </a:rPr>
              <a:t>Włoski fizyk, matematyk, astronom i filozof, twórca podstaw ksperymentalnych metod w przyrodoznawstwie, a także, dzięki opracowaniu lunety astronomicznej, podstaw współczesnej astronomii obserwacyjnej.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cc00"/>
                </a:solidFill>
                <a:latin typeface="Arial Black"/>
              </a:rPr>
              <a:t>Osiągnięcia Galileusza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Verdana"/>
              </a:rPr>
              <a:t>1581: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Verdana"/>
              </a:rPr>
              <a:t>Zbadał prawa ruchu wahadła (izochronizm)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Verdana"/>
              </a:rPr>
              <a:t>1609: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Verdana"/>
              </a:rPr>
              <a:t>Zbudował pierwszy lunetę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Verdana"/>
              </a:rPr>
              <a:t>1611: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Verdana"/>
              </a:rPr>
              <a:t>Opublikował opisy swoich obserwacji astronomicznych w dziele „</a:t>
            </a:r>
            <a:r>
              <a:rPr b="1" i="1" lang="pl-PL" sz="1800" spc="-1" strike="noStrike">
                <a:solidFill>
                  <a:srgbClr val="ffffcc"/>
                </a:solidFill>
                <a:latin typeface="Verdana"/>
              </a:rPr>
              <a:t>Gwiezdny posłaniec</a:t>
            </a:r>
            <a:r>
              <a:rPr b="1" lang="pl-PL" sz="1800" spc="-1" strike="noStrike">
                <a:solidFill>
                  <a:srgbClr val="ffffcc"/>
                </a:solidFill>
                <a:latin typeface="Verdana"/>
              </a:rPr>
              <a:t>", w tym: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Verdana"/>
              </a:rPr>
              <a:t>- kratery na Księżycu;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Verdana"/>
              </a:rPr>
              <a:t>- plamy na Słońcu, dzięki którym stwierdził obrót Słońca wokół osi i wyznaczył okres jego obrotu;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Verdana"/>
              </a:rPr>
              <a:t>- cztery największe księżyce Jowisza (zwane do dziś „galileuszowymi")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Verdana"/>
              </a:rPr>
              <a:t>1613: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Verdana"/>
              </a:rPr>
              <a:t>Zaobserwował fazy Wenus, jeden z ważniejszych wtedy dowodów na słuszność heliocentrycznego systemu Kopernika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173160"/>
            <a:ext cx="8637480" cy="131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cc00"/>
                </a:solidFill>
                <a:latin typeface="Arial"/>
              </a:rPr>
              <a:t>Isaac Newton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5292720" y="1773360"/>
            <a:ext cx="3095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Arial"/>
              </a:rPr>
              <a:t>W swoim słynnym dziele </a:t>
            </a:r>
            <a:r>
              <a:rPr b="1" i="1" lang="pl-PL" sz="2400" spc="-1" strike="noStrike">
                <a:solidFill>
                  <a:srgbClr val="ffffcc"/>
                </a:solidFill>
                <a:latin typeface="Arial"/>
              </a:rPr>
              <a:t>Philosophiae Naturalis Principia Mathematica</a:t>
            </a:r>
            <a:r>
              <a:rPr b="1" lang="pl-PL" sz="2400" spc="-1" strike="noStrike">
                <a:solidFill>
                  <a:srgbClr val="ffffcc"/>
                </a:solidFill>
                <a:latin typeface="Arial"/>
              </a:rPr>
              <a:t> przedstawił prawo powszechnego ciążenia, a także prawa ruchu leżące u podstaw mechaniki klasycznej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34131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4247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cc00"/>
                </a:solidFill>
                <a:latin typeface="Arial"/>
              </a:rPr>
              <a:t>Charakterystyka stylu – Muzyka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710240" y="1814400"/>
            <a:ext cx="414000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Muzyka baroku nauczyła się korzystać z wielu środków wyrazu i posługiwała się bogatą stylistyką. Rozwinęła się opera, oratorium i kantata, muzyka instrumentalna sięgnęła też po takie formy jak sonaty, koncerty i uwertury. Do największych twórców epoki baroku zaliczają się przede wszystkim Jana Sebastiana Bacha, Jerzego Fryderyka Händla oraz Antonia Vivaldiego</a:t>
            </a:r>
            <a:r>
              <a:rPr b="0" lang="pl-PL" sz="24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Obraz 1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40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00"/>
                </a:solidFill>
                <a:latin typeface="Arial"/>
              </a:rPr>
              <a:t>Barok - definicj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ole tekstowe 5"/>
          <p:cNvSpPr/>
          <p:nvPr/>
        </p:nvSpPr>
        <p:spPr>
          <a:xfrm>
            <a:off x="1000080" y="1844640"/>
            <a:ext cx="767556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cc"/>
                </a:solidFill>
                <a:latin typeface="Arial"/>
              </a:rPr>
              <a:t>Barok – epoka w dziejach kultury europejskiej, zapoczątkowana soborem trydenckim, która przypada na okres od połowy XVI do początku XVIII w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l-PL" sz="21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pl-PL" sz="2100" spc="-1" strike="noStrike">
                <a:solidFill>
                  <a:srgbClr val="ffffcc"/>
                </a:solidFill>
                <a:latin typeface="Arial"/>
              </a:rPr>
              <a:t>Epokę tę cechuje: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odrzucenie renesansowego ładu i harmonii,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położenie nacisku na ruch, kontrast i dynamikę, 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wykorzystanie sztuki i architektury do umacniania   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wiary katolickiej i nawracania innowierców, 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przepych i bogactwo form,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łączenie różnych elementów,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pl-PL" sz="2100" spc="-1" strike="noStrike">
                <a:solidFill>
                  <a:srgbClr val="ffffcc"/>
                </a:solidFill>
                <a:latin typeface="Arial"/>
              </a:rPr>
              <a:t>posługiwanie się alegorią i personifikacją.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317520" y="1990800"/>
            <a:ext cx="2481120" cy="3473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2"/>
          <a:stretch/>
        </p:blipFill>
        <p:spPr>
          <a:xfrm>
            <a:off x="3340080" y="1916280"/>
            <a:ext cx="2592360" cy="3511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"/>
          <p:cNvPicPr/>
          <p:nvPr/>
        </p:nvPicPr>
        <p:blipFill>
          <a:blip r:embed="rId3"/>
          <a:stretch/>
        </p:blipFill>
        <p:spPr>
          <a:xfrm>
            <a:off x="6367320" y="1925640"/>
            <a:ext cx="2587680" cy="34732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1"/>
          <p:cNvSpPr/>
          <p:nvPr/>
        </p:nvSpPr>
        <p:spPr>
          <a:xfrm>
            <a:off x="468360" y="5670720"/>
            <a:ext cx="26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cc"/>
                </a:solidFill>
                <a:latin typeface="Arial"/>
              </a:rPr>
              <a:t>Jan Sebastian Bach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3519360" y="5664240"/>
            <a:ext cx="234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cc"/>
                </a:solidFill>
                <a:latin typeface="Arial"/>
              </a:rPr>
              <a:t>Jerzy Fryderyk Hände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6672240" y="566424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cc"/>
                </a:solidFill>
                <a:latin typeface="Arial"/>
              </a:rPr>
              <a:t>Antonia Vivaldieg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cc00"/>
                </a:solidFill>
                <a:latin typeface="Arial"/>
              </a:rPr>
              <a:t>Architektura i sztuka barok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Za początek baroku </a:t>
            </a:r>
            <a:br>
              <a:rPr sz="2400"/>
            </a:b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w architekturze uważa się rzymski kościół Il Gesu, zaprojektowany przez Giacomo da Vignola</a:t>
            </a:r>
            <a:br>
              <a:rPr sz="2400"/>
            </a:b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i Giacomo della Porta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Picture 6" descr="zgesu"/>
          <p:cNvPicPr/>
          <p:nvPr/>
        </p:nvPicPr>
        <p:blipFill>
          <a:blip r:embed="rId1"/>
          <a:stretch/>
        </p:blipFill>
        <p:spPr>
          <a:xfrm>
            <a:off x="504720" y="1941480"/>
            <a:ext cx="3675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cc00"/>
                </a:solidFill>
                <a:latin typeface="Arial"/>
              </a:rPr>
              <a:t>Architektura i sztuka barok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5486400"/>
            <a:ext cx="8569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Także wnętrze kościoła posiada wiele charakterystycznych cech. Spróbuj je znaleźć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3" name="Picture 6" descr="033bg"/>
          <p:cNvPicPr/>
          <p:nvPr/>
        </p:nvPicPr>
        <p:blipFill>
          <a:blip r:embed="rId1"/>
          <a:stretch/>
        </p:blipFill>
        <p:spPr>
          <a:xfrm>
            <a:off x="2050920" y="1916280"/>
            <a:ext cx="50292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cc00"/>
                </a:solidFill>
                <a:latin typeface="Arial"/>
              </a:rPr>
              <a:t>Architektura i sztuka barok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5" name="Picture 3" descr="19-6"/>
          <p:cNvPicPr/>
          <p:nvPr/>
        </p:nvPicPr>
        <p:blipFill>
          <a:blip r:embed="rId1"/>
          <a:stretch/>
        </p:blipFill>
        <p:spPr>
          <a:xfrm>
            <a:off x="468360" y="2133720"/>
            <a:ext cx="4267080" cy="297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19-5"/>
          <p:cNvPicPr/>
          <p:nvPr/>
        </p:nvPicPr>
        <p:blipFill>
          <a:blip r:embed="rId2"/>
          <a:stretch/>
        </p:blipFill>
        <p:spPr>
          <a:xfrm>
            <a:off x="5435640" y="2060640"/>
            <a:ext cx="3033720" cy="3962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250920" y="5445000"/>
            <a:ext cx="51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W stylu barokowym została też wykończona przez Gianlorenzo Berniniego Bazylika Świętego Pio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cc00"/>
                </a:solidFill>
                <a:latin typeface="Arial"/>
              </a:rPr>
              <a:t>Architektura i sztuka barok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08280" y="2060280"/>
            <a:ext cx="402876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Barokowi architekci coraz częściej projektowali pałace i luksusowe rezydencj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Jednym z najbardziej znanych barokowych pałaców autorstwa Louisa le Vau i Joulesa Hardina-Mansarta jest pałac w Wersalu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0" name="Picture 6" descr="!versailles"/>
          <p:cNvPicPr/>
          <p:nvPr/>
        </p:nvPicPr>
        <p:blipFill>
          <a:blip r:embed="rId1"/>
          <a:stretch/>
        </p:blipFill>
        <p:spPr>
          <a:xfrm>
            <a:off x="250920" y="2276640"/>
            <a:ext cx="4027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cc00"/>
                </a:solidFill>
                <a:latin typeface="Arial"/>
              </a:rPr>
              <a:t>Architektura i sztuka barok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Picture 3" descr="water4"/>
          <p:cNvPicPr/>
          <p:nvPr/>
        </p:nvPicPr>
        <p:blipFill>
          <a:blip r:embed="rId1"/>
          <a:stretch/>
        </p:blipFill>
        <p:spPr>
          <a:xfrm>
            <a:off x="228600" y="1981080"/>
            <a:ext cx="4038480" cy="3200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orangery2"/>
          <p:cNvPicPr/>
          <p:nvPr/>
        </p:nvPicPr>
        <p:blipFill>
          <a:blip r:embed="rId2"/>
          <a:stretch/>
        </p:blipFill>
        <p:spPr>
          <a:xfrm>
            <a:off x="4572000" y="198108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80880" y="54100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Arial"/>
              </a:rPr>
              <a:t>W architekturze wielkiego znaczenia nabrał nie tylko sam budynek, ale także jego otoczenie, na przykład wielkie ogrody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00"/>
                </a:solidFill>
                <a:latin typeface="Arial"/>
              </a:rPr>
              <a:t>Architektura i sztuka barok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84720" y="1941480"/>
            <a:ext cx="468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Budowle sakralne według wskazań soboru trydenckiego miały olśniewać wiernych swoim przepychem </a:t>
            </a:r>
            <a:br>
              <a:rPr sz="2400"/>
            </a:b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i przekazywać treści biblijne. Stąd pojawiło się malarstwo iluzjonistyczne, dzięki któremu sklepienie kościoła mogło wydawać się niebem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Arial"/>
              </a:rPr>
              <a:t>Obok malowidło </a:t>
            </a:r>
            <a:r>
              <a:rPr b="0" lang="pl-PL" sz="2400" spc="-1" strike="noStrike">
                <a:solidFill>
                  <a:srgbClr val="ffffcc"/>
                </a:solidFill>
                <a:latin typeface="Arial"/>
                <a:ea typeface="Arial"/>
              </a:rPr>
              <a:t>Pietro da Corton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Picture 6" descr="cortonabarberiniA3"/>
          <p:cNvPicPr/>
          <p:nvPr/>
        </p:nvPicPr>
        <p:blipFill>
          <a:blip r:embed="rId1"/>
          <a:stretch/>
        </p:blipFill>
        <p:spPr>
          <a:xfrm>
            <a:off x="468360" y="1989000"/>
            <a:ext cx="334944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cc00"/>
                </a:solidFill>
                <a:latin typeface="Arial"/>
              </a:rPr>
              <a:t>Architektura i sztuka barok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9" name="Picture 3" descr="pozzoignazio2"/>
          <p:cNvPicPr/>
          <p:nvPr/>
        </p:nvPicPr>
        <p:blipFill>
          <a:blip r:embed="rId1"/>
          <a:stretch/>
        </p:blipFill>
        <p:spPr>
          <a:xfrm>
            <a:off x="755640" y="1916280"/>
            <a:ext cx="2895480" cy="3733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gaulligesu3"/>
          <p:cNvPicPr/>
          <p:nvPr/>
        </p:nvPicPr>
        <p:blipFill>
          <a:blip r:embed="rId2"/>
          <a:stretch/>
        </p:blipFill>
        <p:spPr>
          <a:xfrm>
            <a:off x="5435640" y="1628640"/>
            <a:ext cx="2612880" cy="3745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324000" y="5759280"/>
            <a:ext cx="3630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Arial"/>
                <a:ea typeface="Arial"/>
              </a:rPr>
              <a:t>Andrea Pozzo, </a:t>
            </a:r>
            <a:r>
              <a:rPr b="0" i="1" lang="pl-PL" sz="1800" spc="-1" strike="noStrike">
                <a:solidFill>
                  <a:srgbClr val="ffffcc"/>
                </a:solidFill>
                <a:latin typeface="Arial"/>
              </a:rPr>
              <a:t>Tryumf świętego Ignacego Loyol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003640" y="5516640"/>
            <a:ext cx="33530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Arial"/>
                <a:ea typeface="Arial"/>
              </a:rPr>
              <a:t>Baciccio (G. B. Gaulli),</a:t>
            </a:r>
            <a:r>
              <a:rPr b="0" lang="pl-PL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ffffcc"/>
                </a:solidFill>
                <a:latin typeface="Arial"/>
              </a:rPr>
              <a:t>Tryumf Imienia Jezus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8T10:10:09Z</dcterms:created>
  <dc:creator>aaa</dc:creator>
  <dc:description/>
  <dc:language>en-US</dc:language>
  <cp:lastModifiedBy>marcinkarlo12@gmail.com</cp:lastModifiedBy>
  <dcterms:modified xsi:type="dcterms:W3CDTF">2020-03-25T16:58:21Z</dcterms:modified>
  <cp:revision>38</cp:revision>
  <dc:subject/>
  <dc:title>Architektura i sztuka baroku</dc:title>
</cp:coreProperties>
</file>